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6D9-5E02-4BFC-85FA-5361192D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086-01BB-4C85-800E-941BBC31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21A-4E47-4CC7-939A-8C2DAD43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757-E6A1-47BB-A14E-DDB3CBDB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1C1-89E2-47DB-95CA-FDF7AE49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86F-283A-47DC-A746-16566B6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466-2599-4030-B671-5F860FE1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092-1C01-466D-83BE-706C57FB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49E-CA43-4999-864C-FE1F75FA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070-0772-4CC3-ABE3-5DEE4AC7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29D-EA33-42AB-A8E6-CA04BD9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BD6-26EE-48EC-A94C-B1BDFE62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3234-AC1D-4F2E-A273-20E6D20EF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0" y="838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S A COLL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080" y="449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an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" y="327672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ù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o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956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7696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 Quoi ? Où ? Quand ? 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533520"/>
            <a:ext cx="2133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bi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8380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20574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327672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4956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57150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080" y="5715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0:06Z</dcterms:modified>
  <cp:revision>70</cp:revision>
  <dc:subject/>
  <dc:title>Contrôle interne des risques</dc:title>
</cp:coreProperties>
</file>